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media/image9.png" ContentType="image/png"/>
  <Override PartName="/ppt/media/image11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3B65C1-F5FC-4F91-BAAC-5893CBD15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DCCEBE-BEB3-4CCF-83A8-B286358FA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9387A1-ABA3-42DF-986E-9ED0788C9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5A34BE-80A5-4CB9-80CA-B9E1DC5AD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C459C8-6A63-4C38-A661-DE2A4B8BF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3C1F62-73D4-4BA9-BDA9-5863A5BCF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67F33E-B59E-4CB1-B0F5-8853B7B03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C5B06B-E3C3-4BBE-A42D-AC836C9E0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41D37B-A5A6-476C-88EA-7C6A6FB4E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Exercise 3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703443-B259-4AD4-A3C8-23A59FAF9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FE5B0A-BC28-423E-92BB-C18156159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7B48BB-DE84-42DF-87F4-61FAD6231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E5509A-CEFB-433E-92BD-BDE86C588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8F2C52-A786-48E1-87E4-4B1F8B29E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C6073A-2A26-4E10-B018-DBF6C4F72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66FA58-5986-46DF-A0C9-ECA420037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Straight Connector 2"/>
          <p:cNvSpPr/>
          <p:nvPr/>
        </p:nvSpPr>
        <p:spPr>
          <a:xfrm>
            <a:off x="457200" y="744480"/>
            <a:ext cx="8229600" cy="0"/>
          </a:xfrm>
          <a:prstGeom prst="line">
            <a:avLst/>
          </a:prstGeom>
          <a:ln w="12600">
            <a:solidFill>
              <a:srgbClr val="629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4" descr="blue-paper-cardstock-texture.jpeg"/>
          <p:cNvPicPr/>
          <p:nvPr/>
        </p:nvPicPr>
        <p:blipFill>
          <a:blip r:embed="rId3"/>
          <a:stretch/>
        </p:blipFill>
        <p:spPr>
          <a:xfrm>
            <a:off x="-7920" y="6396120"/>
            <a:ext cx="9178920" cy="47304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5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fffff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6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A1AB36-5A74-47F7-AA4B-FB05E0292D8A}" type="slidenum">
              <a:rPr b="0" lang="en-US" sz="1200" spc="-1" strike="noStrike">
                <a:solidFill>
                  <a:srgbClr val="fffff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3" descr="blue-paper-cardstock-texture.jpeg"/>
          <p:cNvPicPr/>
          <p:nvPr/>
        </p:nvPicPr>
        <p:blipFill>
          <a:blip r:embed="rId3"/>
          <a:stretch/>
        </p:blipFill>
        <p:spPr>
          <a:xfrm>
            <a:off x="-7920" y="6396120"/>
            <a:ext cx="9178920" cy="47304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4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fffff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B48A1F-875C-4461-9364-D2F13D7B1616}" type="slidenum">
              <a:rPr b="0" lang="en-US" sz="1200" spc="-1" strike="noStrike">
                <a:solidFill>
                  <a:srgbClr val="fffff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3" descr="blue-paper-cardstock-texture.jpeg"/>
          <p:cNvPicPr/>
          <p:nvPr/>
        </p:nvPicPr>
        <p:blipFill>
          <a:blip r:embed="rId3"/>
          <a:stretch/>
        </p:blipFill>
        <p:spPr>
          <a:xfrm>
            <a:off x="-7920" y="6396120"/>
            <a:ext cx="9178920" cy="47304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4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fffff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AF255C-45A7-4279-90A8-6B1EBA99B573}" type="slidenum">
              <a:rPr b="0" lang="en-US" sz="1200" spc="-1" strike="noStrike">
                <a:solidFill>
                  <a:srgbClr val="fffff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3" descr="blue-paper-cardstock-texture.jpeg"/>
          <p:cNvPicPr/>
          <p:nvPr/>
        </p:nvPicPr>
        <p:blipFill>
          <a:blip r:embed="rId3"/>
          <a:stretch/>
        </p:blipFill>
        <p:spPr>
          <a:xfrm>
            <a:off x="-7920" y="6396120"/>
            <a:ext cx="9178920" cy="47304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4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fffff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336CDC-7757-46AB-B784-20B49FF0B1AE}" type="slidenum">
              <a:rPr b="0" lang="en-US" sz="1200" spc="-1" strike="noStrike">
                <a:solidFill>
                  <a:srgbClr val="fffff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blue-paper-cardstock-texture.jpeg"/>
          <p:cNvPicPr/>
          <p:nvPr/>
        </p:nvPicPr>
        <p:blipFill>
          <a:blip r:embed="rId3"/>
          <a:stretch/>
        </p:blipFill>
        <p:spPr>
          <a:xfrm>
            <a:off x="55440" y="85680"/>
            <a:ext cx="9028080" cy="6089760"/>
          </a:xfrm>
          <a:prstGeom prst="rect">
            <a:avLst/>
          </a:prstGeom>
          <a:ln w="0">
            <a:noFill/>
          </a:ln>
        </p:spPr>
      </p:pic>
      <p:sp>
        <p:nvSpPr>
          <p:cNvPr id="38" name="Rectangle 4"/>
          <p:cNvSpPr/>
          <p:nvPr/>
        </p:nvSpPr>
        <p:spPr>
          <a:xfrm>
            <a:off x="698400" y="4749840"/>
            <a:ext cx="783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 Light"/>
              </a:rPr>
              <a:t>The Practice of Statistics, 5th Edi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 Light"/>
              </a:rPr>
              <a:t>Starnes, Tabor, Yates, Mo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5"/>
          <p:cNvSpPr/>
          <p:nvPr/>
        </p:nvSpPr>
        <p:spPr>
          <a:xfrm>
            <a:off x="6315480" y="6357960"/>
            <a:ext cx="27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Helvetica Neue"/>
              </a:rPr>
              <a:t>Bedford Freeman Worth Publis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blue-paper-cardstock-texture.jpeg"/>
          <p:cNvPicPr/>
          <p:nvPr/>
        </p:nvPicPr>
        <p:blipFill>
          <a:blip r:embed="rId3"/>
          <a:stretch/>
        </p:blipFill>
        <p:spPr>
          <a:xfrm>
            <a:off x="542880" y="731880"/>
            <a:ext cx="4449960" cy="51879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7f7f7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7f7f7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CC6B7D-432B-4ABF-A678-8B97B3BFC1EE}" type="slidenum">
              <a:rPr b="0" lang="en-US" sz="1200" spc="-1" strike="noStrike">
                <a:solidFill>
                  <a:srgbClr val="7f7f7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422280" y="1442880"/>
            <a:ext cx="4473720" cy="398880"/>
            <a:chOff x="422280" y="1442880"/>
            <a:chExt cx="4473720" cy="398880"/>
          </a:xfrm>
        </p:grpSpPr>
        <p:pic>
          <p:nvPicPr>
            <p:cNvPr id="118" name="Picture 3" descr="blue-paper-cardstock-texture.jpeg"/>
            <p:cNvPicPr/>
            <p:nvPr/>
          </p:nvPicPr>
          <p:blipFill>
            <a:blip r:embed="rId3"/>
            <a:stretch/>
          </p:blipFill>
          <p:spPr>
            <a:xfrm>
              <a:off x="565200" y="1491480"/>
              <a:ext cx="4330800" cy="33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4"/>
            <p:cNvSpPr/>
            <p:nvPr/>
          </p:nvSpPr>
          <p:spPr>
            <a:xfrm>
              <a:off x="422280" y="1442880"/>
              <a:ext cx="264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elvetica Neue Bold Condensed"/>
                </a:rPr>
                <a:t>In the Next Section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Straight Connector 5"/>
          <p:cNvSpPr/>
          <p:nvPr/>
        </p:nvSpPr>
        <p:spPr>
          <a:xfrm>
            <a:off x="457200" y="744480"/>
            <a:ext cx="8229600" cy="0"/>
          </a:xfrm>
          <a:prstGeom prst="line">
            <a:avLst/>
          </a:prstGeom>
          <a:ln w="12600">
            <a:solidFill>
              <a:srgbClr val="629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blue-paper-cardstock-texture.jpeg"/>
          <p:cNvPicPr/>
          <p:nvPr/>
        </p:nvPicPr>
        <p:blipFill>
          <a:blip r:embed="rId4"/>
          <a:stretch/>
        </p:blipFill>
        <p:spPr>
          <a:xfrm>
            <a:off x="-7920" y="6396120"/>
            <a:ext cx="9178920" cy="47304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7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fffff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1012C4-B526-48EA-8B95-E6399E06752D}" type="slidenum">
              <a:rPr b="0" lang="en-US" sz="1200" spc="-1" strike="noStrike">
                <a:solidFill>
                  <a:srgbClr val="fffff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417600" y="24300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Looking Ahe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blue-paper-cardstock-texture.jpeg"/>
          <p:cNvPicPr/>
          <p:nvPr/>
        </p:nvPicPr>
        <p:blipFill>
          <a:blip r:embed="rId3"/>
          <a:stretch/>
        </p:blipFill>
        <p:spPr>
          <a:xfrm>
            <a:off x="-7920" y="6396120"/>
            <a:ext cx="9178920" cy="4730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3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fffff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1D9D30-B9DC-48C3-97FE-0CE0F116A768}" type="slidenum">
              <a:rPr b="0" lang="en-US" sz="1200" spc="-1" strike="noStrike">
                <a:solidFill>
                  <a:srgbClr val="fffff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5"/>
          <p:cNvSpPr/>
          <p:nvPr/>
        </p:nvSpPr>
        <p:spPr>
          <a:xfrm>
            <a:off x="457200" y="744480"/>
            <a:ext cx="8229600" cy="0"/>
          </a:xfrm>
          <a:prstGeom prst="line">
            <a:avLst/>
          </a:prstGeom>
          <a:ln w="12600">
            <a:solidFill>
              <a:srgbClr val="629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traight Connector 2"/>
          <p:cNvSpPr/>
          <p:nvPr/>
        </p:nvSpPr>
        <p:spPr>
          <a:xfrm>
            <a:off x="457200" y="744480"/>
            <a:ext cx="8229600" cy="0"/>
          </a:xfrm>
          <a:prstGeom prst="line">
            <a:avLst/>
          </a:prstGeom>
          <a:ln w="12600">
            <a:solidFill>
              <a:srgbClr val="629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blue-paper-cardstock-texture.jpeg"/>
          <p:cNvPicPr/>
          <p:nvPr/>
        </p:nvPicPr>
        <p:blipFill>
          <a:blip r:embed="rId3"/>
          <a:stretch/>
        </p:blipFill>
        <p:spPr>
          <a:xfrm>
            <a:off x="-7920" y="6396120"/>
            <a:ext cx="9178920" cy="4730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5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fffff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0D2380-1789-4C90-BED5-7DCD6FB7FFC2}" type="slidenum">
              <a:rPr b="0" lang="en-US" sz="1200" spc="-1" strike="noStrike">
                <a:solidFill>
                  <a:srgbClr val="fffff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"/>
          <p:cNvSpPr/>
          <p:nvPr/>
        </p:nvSpPr>
        <p:spPr>
          <a:xfrm>
            <a:off x="457200" y="744480"/>
            <a:ext cx="8229600" cy="0"/>
          </a:xfrm>
          <a:prstGeom prst="line">
            <a:avLst/>
          </a:prstGeom>
          <a:ln w="12600">
            <a:solidFill>
              <a:srgbClr val="629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5"/>
          <p:cNvGrpSpPr/>
          <p:nvPr/>
        </p:nvGrpSpPr>
        <p:grpSpPr>
          <a:xfrm>
            <a:off x="280440" y="947880"/>
            <a:ext cx="8406360" cy="398880"/>
            <a:chOff x="280440" y="947880"/>
            <a:chExt cx="8406360" cy="398880"/>
          </a:xfrm>
        </p:grpSpPr>
        <p:pic>
          <p:nvPicPr>
            <p:cNvPr id="246" name="Picture 6" descr="blue-paper-cardstock-texture.jpeg"/>
            <p:cNvPicPr/>
            <p:nvPr/>
          </p:nvPicPr>
          <p:blipFill>
            <a:blip r:embed="rId3"/>
            <a:stretch/>
          </p:blipFill>
          <p:spPr>
            <a:xfrm>
              <a:off x="457200" y="996480"/>
              <a:ext cx="8229600" cy="33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Rectangle 5"/>
            <p:cNvSpPr/>
            <p:nvPr/>
          </p:nvSpPr>
          <p:spPr>
            <a:xfrm>
              <a:off x="280440" y="947880"/>
              <a:ext cx="254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elvetica Neue Bold Condensed"/>
                </a:rPr>
                <a:t>Learning Objectiv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Rectangle 8"/>
          <p:cNvSpPr/>
          <p:nvPr/>
        </p:nvSpPr>
        <p:spPr>
          <a:xfrm>
            <a:off x="382680" y="1368360"/>
            <a:ext cx="496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After this section, you should be able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7"/>
          <p:cNvSpPr/>
          <p:nvPr/>
        </p:nvSpPr>
        <p:spPr>
          <a:xfrm>
            <a:off x="1671480" y="23907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blue-paper-cardstock-texture.jpeg"/>
          <p:cNvPicPr/>
          <p:nvPr/>
        </p:nvPicPr>
        <p:blipFill>
          <a:blip r:embed="rId4"/>
          <a:stretch/>
        </p:blipFill>
        <p:spPr>
          <a:xfrm>
            <a:off x="-7920" y="6396120"/>
            <a:ext cx="9178920" cy="47304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5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fffff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8F1A58-7072-4EA4-A393-7137E483B0C8}" type="slidenum">
              <a:rPr b="0" lang="en-US" sz="1200" spc="-1" strike="noStrike">
                <a:solidFill>
                  <a:srgbClr val="fffff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traight Connector 2"/>
          <p:cNvSpPr/>
          <p:nvPr/>
        </p:nvSpPr>
        <p:spPr>
          <a:xfrm>
            <a:off x="457200" y="744480"/>
            <a:ext cx="8229600" cy="0"/>
          </a:xfrm>
          <a:prstGeom prst="line">
            <a:avLst/>
          </a:prstGeom>
          <a:ln w="12600">
            <a:solidFill>
              <a:srgbClr val="629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5"/>
          <p:cNvGrpSpPr/>
          <p:nvPr/>
        </p:nvGrpSpPr>
        <p:grpSpPr>
          <a:xfrm>
            <a:off x="313560" y="947880"/>
            <a:ext cx="8373240" cy="398880"/>
            <a:chOff x="313560" y="947880"/>
            <a:chExt cx="8373240" cy="398880"/>
          </a:xfrm>
        </p:grpSpPr>
        <p:pic>
          <p:nvPicPr>
            <p:cNvPr id="292" name="Picture 6" descr="blue-paper-cardstock-texture.jpeg"/>
            <p:cNvPicPr/>
            <p:nvPr/>
          </p:nvPicPr>
          <p:blipFill>
            <a:blip r:embed="rId3"/>
            <a:stretch/>
          </p:blipFill>
          <p:spPr>
            <a:xfrm>
              <a:off x="457200" y="996480"/>
              <a:ext cx="8229600" cy="33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Rectangle 5"/>
            <p:cNvSpPr/>
            <p:nvPr/>
          </p:nvSpPr>
          <p:spPr>
            <a:xfrm>
              <a:off x="313560" y="947880"/>
              <a:ext cx="22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elvetica Neue Bold Condensed"/>
                </a:rPr>
                <a:t>Section Summ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Rectangle 8"/>
          <p:cNvSpPr/>
          <p:nvPr/>
        </p:nvSpPr>
        <p:spPr>
          <a:xfrm>
            <a:off x="405360" y="1368360"/>
            <a:ext cx="439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In this section, we learned how t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7"/>
          <p:cNvSpPr/>
          <p:nvPr/>
        </p:nvSpPr>
        <p:spPr>
          <a:xfrm>
            <a:off x="1671480" y="23907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4" descr="blue-paper-cardstock-texture.jpeg"/>
          <p:cNvPicPr/>
          <p:nvPr/>
        </p:nvPicPr>
        <p:blipFill>
          <a:blip r:embed="rId4"/>
          <a:stretch/>
        </p:blipFill>
        <p:spPr>
          <a:xfrm>
            <a:off x="-7920" y="6396120"/>
            <a:ext cx="9178920" cy="47304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5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fffff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5223D0-C74B-4D4E-A920-F4D08FDFE500}" type="slidenum">
              <a:rPr b="0" lang="en-US" sz="1200" spc="-1" strike="noStrike">
                <a:solidFill>
                  <a:srgbClr val="fffff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traight Connector 2"/>
          <p:cNvSpPr/>
          <p:nvPr/>
        </p:nvSpPr>
        <p:spPr>
          <a:xfrm>
            <a:off x="457200" y="744480"/>
            <a:ext cx="8229600" cy="0"/>
          </a:xfrm>
          <a:prstGeom prst="line">
            <a:avLst/>
          </a:prstGeom>
          <a:ln w="12600">
            <a:solidFill>
              <a:srgbClr val="629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blue-paper-cardstock-texture.jpeg"/>
          <p:cNvPicPr/>
          <p:nvPr/>
        </p:nvPicPr>
        <p:blipFill>
          <a:blip r:embed="rId3"/>
          <a:stretch/>
        </p:blipFill>
        <p:spPr>
          <a:xfrm>
            <a:off x="-7920" y="6396120"/>
            <a:ext cx="9178920" cy="47304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5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fffff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BB3A8B-B0F4-4B1B-B433-9A0BF813BF49}" type="slidenum">
              <a:rPr b="0" lang="en-US" sz="1200" spc="-1" strike="noStrike">
                <a:solidFill>
                  <a:srgbClr val="fffff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5" descr=""/>
          <p:cNvPicPr/>
          <p:nvPr/>
        </p:nvPicPr>
        <p:blipFill>
          <a:blip r:embed="rId1"/>
          <a:stretch/>
        </p:blipFill>
        <p:spPr>
          <a:xfrm>
            <a:off x="7570800" y="3019320"/>
            <a:ext cx="1374840" cy="299736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6" descr=""/>
          <p:cNvPicPr/>
          <p:nvPr/>
        </p:nvPicPr>
        <p:blipFill>
          <a:blip r:embed="rId2"/>
          <a:stretch/>
        </p:blipFill>
        <p:spPr>
          <a:xfrm>
            <a:off x="7972560" y="3895560"/>
            <a:ext cx="973080" cy="212112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98400" y="906120"/>
            <a:ext cx="5470560" cy="16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Bold Condensed"/>
                <a:ea typeface="Helvetica Neue Bold Condensed"/>
              </a:rPr>
              <a:t>CHAPTER 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Helvetica Neue Bold Condensed"/>
                <a:ea typeface="Helvetica Neue Bold Condensed"/>
              </a:rPr>
              <a:t>Testing a Clai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98400" y="2709720"/>
            <a:ext cx="547056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Bold Condensed"/>
                <a:ea typeface="Helvetica Neue Bold Condensed"/>
              </a:rPr>
              <a:t>9.2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Bold Condensed"/>
                <a:ea typeface="Helvetica Neue Bold Condensed"/>
              </a:rPr>
              <a:t>Tests About a Population Proportio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Practice continu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57200" y="107748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If couples really have no directional preference when kissing, there is a 0.00008 probability of observing at least 83 of 124 couples kissing the right way by chance alone.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pull dir="l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The One-Sample </a:t>
            </a:r>
            <a:r>
              <a:rPr b="0" i="1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-Test for a Propor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TextBox 14"/>
          <p:cNvSpPr/>
          <p:nvPr/>
        </p:nvSpPr>
        <p:spPr>
          <a:xfrm>
            <a:off x="457200" y="820800"/>
            <a:ext cx="8229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o perform a significance test, we state hypotheses, check conditions, calculate a test statistic and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-value, and draw a conclusion in the context of the proble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he four-step process is ideal for organizing our wor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5"/>
          <p:cNvSpPr/>
          <p:nvPr/>
        </p:nvSpPr>
        <p:spPr>
          <a:xfrm>
            <a:off x="601560" y="2782800"/>
            <a:ext cx="7790040" cy="368280"/>
          </a:xfrm>
          <a:prstGeom prst="rect">
            <a:avLst/>
          </a:prstGeom>
          <a:solidFill>
            <a:srgbClr val="1c28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Significance Tests: A Four-Step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6"/>
          <p:cNvSpPr/>
          <p:nvPr/>
        </p:nvSpPr>
        <p:spPr>
          <a:xfrm>
            <a:off x="601560" y="3157560"/>
            <a:ext cx="7790040" cy="3110400"/>
          </a:xfrm>
          <a:prstGeom prst="rect">
            <a:avLst/>
          </a:prstGeom>
          <a:solidFill>
            <a:srgbClr val="faed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State: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What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hypotheses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do you want to test, and at what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significance level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? Define any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arameters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you u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lan: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Choose the appropriate inference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method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. Check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conditions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Do: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If the conditions are met, perform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calculations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Compute the </a:t>
            </a: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test statistic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Find the </a:t>
            </a:r>
            <a:r>
              <a:rPr b="1" i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-value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Conclude: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Make a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decision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bout the hypotheses in the context of the proble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The One-Sample </a:t>
            </a:r>
            <a:r>
              <a:rPr b="0" i="1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-Test for a Propor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5" name="Group 13"/>
          <p:cNvGrpSpPr/>
          <p:nvPr/>
        </p:nvGrpSpPr>
        <p:grpSpPr>
          <a:xfrm>
            <a:off x="457200" y="1308240"/>
            <a:ext cx="8045280" cy="1422360"/>
            <a:chOff x="457200" y="1308240"/>
            <a:chExt cx="8045280" cy="1422360"/>
          </a:xfrm>
        </p:grpSpPr>
        <p:sp>
          <p:nvSpPr>
            <p:cNvPr id="586" name="Rectangle 11"/>
            <p:cNvSpPr/>
            <p:nvPr/>
          </p:nvSpPr>
          <p:spPr>
            <a:xfrm>
              <a:off x="457200" y="1308240"/>
              <a:ext cx="804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elvetica Neue"/>
                </a:rPr>
                <a:t>When the conditions are met—Random, 10%, and Large Count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7" name="Object 2"/>
                <p:cNvSpPr txBox="1"/>
                <p:nvPr/>
              </p:nvSpPr>
              <p:spPr>
                <a:xfrm>
                  <a:off x="545400" y="1778040"/>
                  <a:ext cx="7341840" cy="95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the sampling distribution of   {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  <m:r>
                            <m:rPr>
                              <m:lit/>
                              <m:nor/>
                            </m:rPr>
                            <m:t xml:space="preserve">  is approximately Normal with mean </m:t>
                          </m:r>
                        </m:e>
                      </m:eqAr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</m:sub>
                      </m:sSub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rPr>
                          <m:lit/>
                          <m:nor/>
                        </m:rPr>
                        <m:t xml:space="preserve"> and standard deviation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p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</m:e>
                      </m:rad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88" name="Rectangle 11"/>
          <p:cNvSpPr/>
          <p:nvPr/>
        </p:nvSpPr>
        <p:spPr>
          <a:xfrm>
            <a:off x="546120" y="3276720"/>
            <a:ext cx="80452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z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tatistic has approximately the standard Normal distribution when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Helvetica Neue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is tru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-values therefore come from the standard Normal distribu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The One-Sample </a:t>
            </a:r>
            <a:r>
              <a:rPr b="0" i="1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-Test for a Propor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Box 6"/>
          <p:cNvSpPr/>
          <p:nvPr/>
        </p:nvSpPr>
        <p:spPr>
          <a:xfrm>
            <a:off x="601560" y="1058760"/>
            <a:ext cx="7790040" cy="368280"/>
          </a:xfrm>
          <a:prstGeom prst="rect">
            <a:avLst/>
          </a:prstGeom>
          <a:solidFill>
            <a:srgbClr val="1c28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One Sample </a:t>
            </a: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-Test for a Propor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10"/>
          <p:cNvSpPr/>
          <p:nvPr/>
        </p:nvSpPr>
        <p:spPr>
          <a:xfrm>
            <a:off x="601560" y="1430280"/>
            <a:ext cx="7790040" cy="3572640"/>
          </a:xfrm>
          <a:prstGeom prst="rect">
            <a:avLst/>
          </a:prstGeom>
          <a:solidFill>
            <a:srgbClr val="faed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oose an SRS of siz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m a large population that contains an unknown propor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 successes. To test the hypothes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comput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z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d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value by calculating the probability of getting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tatistic this large or larger in the direction specified by the alternative hypothes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2" name="Object 2"/>
              <p:cNvSpPr txBox="1"/>
              <p:nvPr/>
            </p:nvSpPr>
            <p:spPr>
              <a:xfrm>
                <a:off x="3471840" y="2392200"/>
                <a:ext cx="1949400" cy="112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p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593" name="Picture 13" descr="Screen shot 2010-11-20 at 7.19.39 PM.png"/>
          <p:cNvPicPr/>
          <p:nvPr/>
        </p:nvPicPr>
        <p:blipFill>
          <a:blip r:embed="rId1"/>
          <a:stretch/>
        </p:blipFill>
        <p:spPr>
          <a:xfrm>
            <a:off x="601560" y="4621320"/>
            <a:ext cx="7790040" cy="1633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9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Two-Sided T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xtBox 14"/>
          <p:cNvSpPr/>
          <p:nvPr/>
        </p:nvSpPr>
        <p:spPr>
          <a:xfrm>
            <a:off x="457200" y="954000"/>
            <a:ext cx="7915320" cy="41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-value in a one-sided test is the area in one tail of a standard Normal distribution—the tail specified by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Ha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In a two-sided test, the alternative hypothesis has the fo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Helvetica Neue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: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≠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Helvetica Neue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-value in such a test is the probability of getting a sample proportion as far as or farther from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Helvetica Neue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in either direction than the observed value of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hat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As a result, you have to find the area in both tails of a standard Normal distribution to get the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-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5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Example – calculating one sample z prop. Tes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457200" y="107748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ogether we will look at pg. 557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One potato two potato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We will read the problem step by step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hen re-do it on the graphing calculator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Key phrase – from the a.p. exam tip. 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Practic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57200" y="107748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On handout with the practice problem still up.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Example – two sided significance tes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57200" y="107748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E-book page 562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Thanks to Mr. Spring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57200" y="107748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One sided: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aying that you think the true mean or proportion is greater or less than the claim.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wo sided: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aying that you think the true mean or proportion is different than the claim.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pull dir="lu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Why Confidence Intervals Give 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Rectangle 8"/>
          <p:cNvSpPr/>
          <p:nvPr/>
        </p:nvSpPr>
        <p:spPr>
          <a:xfrm>
            <a:off x="453960" y="954000"/>
            <a:ext cx="823284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he result of a significance test is basically a decision to reject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Helvetica Neue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or fail to reject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Helvetica Neue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. When we reject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Helvetica Neue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, we’re left wondering what the actual proportion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might be. A confidence interval might shed some light on this issu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5"/>
          <p:cNvSpPr/>
          <p:nvPr/>
        </p:nvSpPr>
        <p:spPr>
          <a:xfrm>
            <a:off x="420840" y="2303640"/>
            <a:ext cx="8232480" cy="16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aeyeon found that 90 of an SRS of 150 students said that they had never smoked a cigarette. The number of successes and the number of failures in the sample are 90 and 60, respectively, so we can proceed with calcul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Group 18"/>
          <p:cNvGrpSpPr/>
          <p:nvPr/>
        </p:nvGrpSpPr>
        <p:grpSpPr>
          <a:xfrm>
            <a:off x="312840" y="3751200"/>
            <a:ext cx="8373960" cy="2533320"/>
            <a:chOff x="312840" y="3751200"/>
            <a:chExt cx="8373960" cy="2533320"/>
          </a:xfrm>
        </p:grpSpPr>
        <p:sp>
          <p:nvSpPr>
            <p:cNvPr id="608" name="Rectangle 17"/>
            <p:cNvSpPr/>
            <p:nvPr/>
          </p:nvSpPr>
          <p:spPr>
            <a:xfrm>
              <a:off x="312840" y="3751200"/>
              <a:ext cx="8373960" cy="2533320"/>
            </a:xfrm>
            <a:prstGeom prst="rect">
              <a:avLst/>
            </a:prstGeom>
            <a:gradFill rotWithShape="0">
              <a:gsLst>
                <a:gs pos="0">
                  <a:srgbClr val="dfecff"/>
                </a:gs>
                <a:gs pos="100000">
                  <a:srgbClr val="8fbcff"/>
                </a:gs>
              </a:gsLst>
              <a:lin ang="5400000"/>
            </a:gradFill>
            <a:ln w="9360">
              <a:solidFill>
                <a:srgbClr val="247cd4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Helvetica Neue"/>
                </a:rPr>
                <a:t>Our 95% confidence interval is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Helvetica Neue"/>
                </a:rPr>
                <a:t>We are 95% confident that the interval from 0.522 to 0.678 captures the true proportion of students at Taeyeon’s high school who would say that they have never smoked a cigarett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9" name="Object 2"/>
                <p:cNvSpPr txBox="1"/>
                <p:nvPr/>
              </p:nvSpPr>
              <p:spPr>
                <a:xfrm>
                  <a:off x="420840" y="4417920"/>
                  <a:ext cx="8105760" cy="63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p</m:t>
                          </m:r>
                        </m:e>
                      </m:acc>
                      <m:r>
                        <m:t xml:space="preserve">±</m:t>
                      </m:r>
                      <m:r>
                        <m:t xml:space="preserve">z</m:t>
                      </m:r>
                      <m:r>
                        <m:t xml:space="preserve">∗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p</m:t>
                                  </m:r>
                                </m:e>
                              </m:acc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p</m:t>
                                  </m:r>
                                </m:e>
                              </m:acc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</m:e>
                      </m:rad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0</m:t>
                      </m:r>
                      <m:r>
                        <m:t xml:space="preserve">±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6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0</m:t>
                              </m:r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0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50</m:t>
                              </m:r>
                            </m:den>
                          </m:f>
                        </m:e>
                      </m:rad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0</m:t>
                      </m:r>
                      <m:r>
                        <m:t xml:space="preserve">±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78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522</m:t>
                      </m:r>
                      <m:r>
                        <m:t xml:space="preserve">,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78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536400" y="1814400"/>
            <a:ext cx="815040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629dd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TATE and CHECK the Random, 10%, and Large Counts conditions for performing a significance test about a population proportion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629dd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PERFORM a significance test about a population proportion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629dd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INTERPRET the power of a test and DESCRIBE what factors affect the power of a test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629dd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DESCRIBE the relationship among the probability of a Type I error (significance level), the probability of a Type II error, and the power of a test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Tests About a Population Propor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Practic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57200" y="107748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Benford’s law and fraud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</a:rPr>
              <a:t>Problem: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(a) Find and interpret a confidence interval for the proportion of all expenses that begin with the digit 1 for the company in the previous Alternate Example.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(b) Does your interval from part (a) lead to the same conclusion as the significance test?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pull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Solution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7200" y="107748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Helvetica Neue"/>
              </a:rPr>
              <a:t>(a) State: We want to estimate </a:t>
            </a:r>
            <a:r>
              <a:rPr b="1" i="1" lang="en-US" sz="1700" spc="-1" strike="noStrike">
                <a:solidFill>
                  <a:srgbClr val="000000"/>
                </a:solidFill>
                <a:latin typeface="Helvetica Neue"/>
              </a:rPr>
              <a:t>p</a:t>
            </a:r>
            <a:r>
              <a:rPr b="1" lang="en-US" sz="1700" spc="-1" strike="noStrike">
                <a:solidFill>
                  <a:srgbClr val="000000"/>
                </a:solidFill>
                <a:latin typeface="Helvetica Neue"/>
              </a:rPr>
              <a:t> = the proportion of all expenses that begin with the digit 1 for this company at the 95% confidence level.</a:t>
            </a:r>
            <a:endParaRPr b="0" lang="en-US" sz="17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Helvetica Neue"/>
              </a:rPr>
              <a:t>Plan: We will use a one-sample </a:t>
            </a:r>
            <a:r>
              <a:rPr b="1" i="1" lang="en-US" sz="1700" spc="-1" strike="noStrike">
                <a:solidFill>
                  <a:srgbClr val="000000"/>
                </a:solidFill>
                <a:latin typeface="Helvetica Neue"/>
              </a:rPr>
              <a:t>z</a:t>
            </a:r>
            <a:r>
              <a:rPr b="1" lang="en-US" sz="1700" spc="-1" strike="noStrike">
                <a:solidFill>
                  <a:srgbClr val="000000"/>
                </a:solidFill>
                <a:latin typeface="Helvetica Neue"/>
              </a:rPr>
              <a:t> interval for </a:t>
            </a:r>
            <a:r>
              <a:rPr b="1" i="1" lang="en-US" sz="1700" spc="-1" strike="noStrike">
                <a:solidFill>
                  <a:srgbClr val="000000"/>
                </a:solidFill>
                <a:latin typeface="Helvetica Neue"/>
              </a:rPr>
              <a:t>p</a:t>
            </a:r>
            <a:r>
              <a:rPr b="1" lang="en-US" sz="1700" spc="-1" strike="noStrike">
                <a:solidFill>
                  <a:srgbClr val="000000"/>
                </a:solidFill>
                <a:latin typeface="Helvetica Neue"/>
              </a:rPr>
              <a:t> if the following conditions are satisfie</a:t>
            </a:r>
            <a:endParaRPr b="0" lang="en-US" sz="17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Helvetica Neue"/>
              </a:rPr>
              <a:t>Random:</a:t>
            </a:r>
            <a:r>
              <a:rPr b="1" lang="en-US" sz="1700" spc="-1" strike="noStrike">
                <a:solidFill>
                  <a:srgbClr val="000000"/>
                </a:solidFill>
                <a:latin typeface="Helvetica Neue"/>
              </a:rPr>
              <a:t> A random sample of expenses was selected. </a:t>
            </a:r>
            <a:endParaRPr b="0" lang="en-US" sz="17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Helvetica Neue"/>
              </a:rPr>
              <a:t>10%: It is reasonable to assume that there are more than 10(300) = 3000 expenses in this company’s financial records.</a:t>
            </a:r>
            <a:endParaRPr b="0" lang="en-US" sz="17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Helvetica Neue"/>
              </a:rPr>
              <a:t>Large Counts:</a:t>
            </a:r>
            <a:r>
              <a:rPr b="1" lang="en-US" sz="1700" spc="-1" strike="noStrike">
                <a:solidFill>
                  <a:srgbClr val="000000"/>
                </a:solidFill>
                <a:latin typeface="Helvetica Neue"/>
              </a:rPr>
              <a:t>  68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1" lang="en-US" sz="1700" spc="-1" strike="noStrike">
                <a:solidFill>
                  <a:srgbClr val="000000"/>
                </a:solidFill>
                <a:latin typeface="Helvetica Neue"/>
              </a:rPr>
              <a:t>  10 and  232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1" lang="en-US" sz="1700" spc="-1" strike="noStrike">
                <a:solidFill>
                  <a:srgbClr val="000000"/>
                </a:solidFill>
                <a:latin typeface="Helvetica Neue"/>
              </a:rPr>
              <a:t>  10</a:t>
            </a:r>
            <a:endParaRPr b="0" lang="en-US" sz="17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Helvetica Neue"/>
              </a:rPr>
              <a:t>Do: 1 – prop z –interval : (0.17929, 0.27404)</a:t>
            </a:r>
            <a:endParaRPr b="0" lang="en-US" sz="17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Helvetica Neue"/>
              </a:rPr>
              <a:t>Conclude: We are 95% confident that the interval from 0.17929 to 0.27404 captures the proportion of all expenses at this company that begin with the digit 1.</a:t>
            </a:r>
            <a:endParaRPr b="0" lang="en-US" sz="17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Helvetica Neue"/>
              </a:rPr>
              <a:t>(b) Yes.  Because 0.301 is not in the interval, it is not a plausible value for the true proportion of expenses that begin with the digit 1. Thus, this company should be investigated for fraud. </a:t>
            </a:r>
            <a:endParaRPr b="0" lang="en-US" sz="17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pull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Why Confidence Intervals Give 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Rectangle 13"/>
          <p:cNvSpPr/>
          <p:nvPr/>
        </p:nvSpPr>
        <p:spPr>
          <a:xfrm>
            <a:off x="460440" y="880920"/>
            <a:ext cx="822960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here is a link between confidence intervals and two-sided tes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he 95% confidence interval gives an approximate range of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Helvetica Neue"/>
              </a:rPr>
              <a:t>0</a:t>
            </a:r>
            <a:r>
              <a:rPr b="0" lang="ja-JP" sz="2000" spc="-1" strike="noStrike">
                <a:solidFill>
                  <a:srgbClr val="000000"/>
                </a:solidFill>
                <a:latin typeface="Helvetica Neue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 that would not be rejected by a two-sided test at the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= 0.05 significance leve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7"/>
          <p:cNvSpPr/>
          <p:nvPr/>
        </p:nvSpPr>
        <p:spPr>
          <a:xfrm>
            <a:off x="816120" y="3289320"/>
            <a:ext cx="7524720" cy="1618560"/>
          </a:xfrm>
          <a:prstGeom prst="rect">
            <a:avLst/>
          </a:prstGeom>
          <a:gradFill rotWithShape="0">
            <a:gsLst>
              <a:gs pos="0">
                <a:srgbClr val="dfecff"/>
              </a:gs>
              <a:gs pos="100000">
                <a:srgbClr val="8fbcff"/>
              </a:gs>
            </a:gsLst>
            <a:lin ang="5400000"/>
          </a:gradFill>
          <a:ln w="9360">
            <a:solidFill>
              <a:srgbClr val="247cd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buClr>
                <a:srgbClr val="e81f3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A two-sided test at significance level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(say,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= 0.05) and a 100(1 –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)% confidence interval (a 95% confidence interval if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 = 0.05) give similar information about the population      paramet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Type II Error and the Power of a 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13"/>
          <p:cNvSpPr/>
          <p:nvPr/>
        </p:nvSpPr>
        <p:spPr>
          <a:xfrm>
            <a:off x="457200" y="760320"/>
            <a:ext cx="8229600" cy="41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A  significance test makes a Type II error when it fails to reject a null hypothesis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Helvetica Neue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that really is fal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here are many values of the parameter that make the alternative hypothesis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Helvetica Neue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true, so we concentrate on one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he probability of making a Type II error depends on several factors, including the actual value of the parameter. A high probability of Type II error for a specific alternative parameter value means that the test is not sensitive enough to usually detect that alterna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1"/>
          <p:cNvSpPr/>
          <p:nvPr/>
        </p:nvSpPr>
        <p:spPr>
          <a:xfrm>
            <a:off x="457200" y="4896000"/>
            <a:ext cx="8085240" cy="1050480"/>
          </a:xfrm>
          <a:prstGeom prst="rect">
            <a:avLst/>
          </a:prstGeom>
          <a:solidFill>
            <a:srgbClr val="d7e9cb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Helvetica Neue"/>
              </a:rPr>
              <a:t>power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of a test against a specific alternative is the probability that the test will reject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Helvetica Neue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at a chosen significance level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when the specified alternative value of the parameter is tr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Type II Error and the Power of a 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Rectangle 13"/>
          <p:cNvSpPr/>
          <p:nvPr/>
        </p:nvSpPr>
        <p:spPr>
          <a:xfrm>
            <a:off x="457200" y="760320"/>
            <a:ext cx="82296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The potato-chip producer wonders whether the significance test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Helvetica Neue"/>
                <a:ea typeface="Helvetica Neue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= 0.08 versus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Helvetica Neue"/>
                <a:ea typeface="Helvetica Neu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&gt; 0.08 based on a random sample of 500 potatoes has enough power to detect a shipment with, say, 11% blemished potatoes. In this case, a particular Type II error is to fail to reject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Helvetica Neue"/>
                <a:ea typeface="Helvetica Neue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= 0.08 when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= 0.1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13" descr="Screen shot 2010-11-14 at 7.58.32 PM.png"/>
          <p:cNvPicPr/>
          <p:nvPr/>
        </p:nvPicPr>
        <p:blipFill>
          <a:blip r:embed="rId1"/>
          <a:srcRect l="0" t="0" r="0" b="50696"/>
          <a:stretch/>
        </p:blipFill>
        <p:spPr>
          <a:xfrm>
            <a:off x="620640" y="2709720"/>
            <a:ext cx="7515360" cy="353376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5"/>
          <p:cNvSpPr/>
          <p:nvPr/>
        </p:nvSpPr>
        <p:spPr>
          <a:xfrm>
            <a:off x="5788080" y="3679920"/>
            <a:ext cx="3136680" cy="2270160"/>
          </a:xfrm>
          <a:prstGeom prst="rect">
            <a:avLst/>
          </a:prstGeom>
          <a:gradFill rotWithShape="0">
            <a:gsLst>
              <a:gs pos="0">
                <a:srgbClr val="dfecff"/>
              </a:gs>
              <a:gs pos="100000">
                <a:srgbClr val="8fbcff"/>
              </a:gs>
            </a:gsLst>
            <a:lin ang="5400000"/>
          </a:gradFill>
          <a:ln w="9360">
            <a:solidFill>
              <a:srgbClr val="247cd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Earlier, we decided to reject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Helvetica Neue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at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α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= 0.05 if our sample yielded a sample proportion to the right of the green li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6" descr="Screen shot 2010-11-14 at 7.58.32 PM.png"/>
          <p:cNvPicPr/>
          <p:nvPr/>
        </p:nvPicPr>
        <p:blipFill>
          <a:blip r:embed="rId2"/>
          <a:srcRect l="0" t="49341" r="0" b="0"/>
          <a:stretch/>
        </p:blipFill>
        <p:spPr>
          <a:xfrm>
            <a:off x="620640" y="2709720"/>
            <a:ext cx="7515360" cy="3630600"/>
          </a:xfrm>
          <a:prstGeom prst="rect">
            <a:avLst/>
          </a:prstGeom>
          <a:ln w="0">
            <a:noFill/>
          </a:ln>
        </p:spPr>
      </p:pic>
      <p:sp>
        <p:nvSpPr>
          <p:cNvPr id="625" name="Rectangle 7"/>
          <p:cNvSpPr/>
          <p:nvPr/>
        </p:nvSpPr>
        <p:spPr>
          <a:xfrm>
            <a:off x="304920" y="2709720"/>
            <a:ext cx="2262240" cy="398880"/>
          </a:xfrm>
          <a:prstGeom prst="rect">
            <a:avLst/>
          </a:prstGeom>
          <a:gradFill rotWithShape="0">
            <a:gsLst>
              <a:gs pos="0">
                <a:srgbClr val="dfecff"/>
              </a:gs>
              <a:gs pos="100000">
                <a:srgbClr val="8fbcff"/>
              </a:gs>
            </a:gsLst>
            <a:lin ang="5400000"/>
          </a:gradFill>
          <a:ln w="9360">
            <a:solidFill>
              <a:srgbClr val="247cd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What if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 = 0.11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8"/>
          <p:cNvSpPr/>
          <p:nvPr/>
        </p:nvSpPr>
        <p:spPr>
          <a:xfrm>
            <a:off x="4424400" y="5384880"/>
            <a:ext cx="4719600" cy="1355400"/>
          </a:xfrm>
          <a:prstGeom prst="rect">
            <a:avLst/>
          </a:prstGeom>
          <a:gradFill rotWithShape="0">
            <a:gsLst>
              <a:gs pos="0">
                <a:srgbClr val="dfecff"/>
              </a:gs>
              <a:gs pos="100000">
                <a:srgbClr val="8fbcff"/>
              </a:gs>
            </a:gsLst>
            <a:lin ang="5400000"/>
          </a:gradFill>
          <a:ln w="9360">
            <a:solidFill>
              <a:srgbClr val="247cd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ince we reject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Helvetica Neue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at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= 0.05 if our sample yields a proportion &gt; 0.0999, we</a:t>
            </a:r>
            <a:r>
              <a:rPr b="0" lang="ja-JP" sz="2000" spc="-1" strike="noStrike">
                <a:solidFill>
                  <a:srgbClr val="000000"/>
                </a:solidFill>
                <a:latin typeface="Helvetica Neue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d correctly reject the shipment about 75% of the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Type II Error and the Power of a 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TextBox 2"/>
          <p:cNvSpPr/>
          <p:nvPr/>
        </p:nvSpPr>
        <p:spPr>
          <a:xfrm>
            <a:off x="457200" y="826920"/>
            <a:ext cx="8379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ignificance level of a test is the probability of reaching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ro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on when the null hypothesis is tru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wer of a test to detect a specific alternative is the probability of reaching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igh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on when that alternative is tru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just as easily describe the test by giving the probability of making a Type II error (sometimes call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7"/>
          <p:cNvSpPr/>
          <p:nvPr/>
        </p:nvSpPr>
        <p:spPr>
          <a:xfrm>
            <a:off x="601560" y="3890880"/>
            <a:ext cx="7790040" cy="368280"/>
          </a:xfrm>
          <a:prstGeom prst="rect">
            <a:avLst/>
          </a:prstGeom>
          <a:solidFill>
            <a:srgbClr val="1c28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Power and Type II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8"/>
          <p:cNvSpPr/>
          <p:nvPr/>
        </p:nvSpPr>
        <p:spPr>
          <a:xfrm>
            <a:off x="601560" y="4265640"/>
            <a:ext cx="7790040" cy="1008720"/>
          </a:xfrm>
          <a:prstGeom prst="rect">
            <a:avLst/>
          </a:prstGeom>
          <a:solidFill>
            <a:srgbClr val="faed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he power of a test against any alternative is 1 minus the probability of a Type II error for that alternative; that i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power = 1 −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β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/>
          </p:nvPr>
        </p:nvSpPr>
        <p:spPr>
          <a:xfrm>
            <a:off x="456840" y="1725120"/>
            <a:ext cx="83962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629dd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TATE and CHECK the Random, 10%, and Large Counts conditions for performing a significance test about a population proportion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629dd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PERFORM a significance test about a population proportion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629dd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INTERPRET the power of a test and DESCRIBE what factors affect the power of a test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629dd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DESCRIBE the relationship among the probability of a Type I error (significance level), the probability of a Type II error, and the power of a test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Tests About a Population Propor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Carrying Out a Significance 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" y="96840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Recall our basketball player who claimed to be an 80% free-throw shooter.  In an SRS of 50 free-throws, he made 32.  His sample proportion of made shots, 32/50 = 0.64, is much lower than what he claimed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Does it provide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convincing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evidence against his claim?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4" name="Rectangle 3"/>
          <p:cNvSpPr/>
          <p:nvPr/>
        </p:nvSpPr>
        <p:spPr>
          <a:xfrm>
            <a:off x="646200" y="3598920"/>
            <a:ext cx="76546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To find out, we must perform a significance test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Helvetica Neue"/>
                <a:ea typeface="Helvetica Neue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 = 0.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Helvetica Neue"/>
                <a:ea typeface="Helvetica Neue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 &lt; 0.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 = the actual proportion of free throws the shooter makes in the long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Carrying Out a Significance 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7200" y="96840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In Chapter 8, we introduced three conditions that should be met before we construct a confidence interval for an unknown population proportion: Random, 10% when sampling without replacement, and Large Counts. These same three conditions must be verified before carrying out a significance test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7" name="TextBox 4"/>
          <p:cNvSpPr/>
          <p:nvPr/>
        </p:nvSpPr>
        <p:spPr>
          <a:xfrm>
            <a:off x="601560" y="2782800"/>
            <a:ext cx="7790040" cy="368280"/>
          </a:xfrm>
          <a:prstGeom prst="rect">
            <a:avLst/>
          </a:prstGeom>
          <a:solidFill>
            <a:srgbClr val="1c28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onditions For Performing A Significance Test About A Propor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5"/>
          <p:cNvSpPr/>
          <p:nvPr/>
        </p:nvSpPr>
        <p:spPr>
          <a:xfrm>
            <a:off x="601560" y="3157560"/>
            <a:ext cx="8085240" cy="1964880"/>
          </a:xfrm>
          <a:prstGeom prst="rect">
            <a:avLst/>
          </a:prstGeom>
          <a:solidFill>
            <a:srgbClr val="faed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</a:rPr>
              <a:t>Random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: The data come from a well-designed random sample or randomized experi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10%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: When sampling without replacement, check that n ≤ (1/10)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</a:rPr>
              <a:t>Large Counts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: Both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n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Helvetica Neue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(1 −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Helvetica Neue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) are at least 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Carrying Out a Significance 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TextBox 14"/>
          <p:cNvSpPr/>
          <p:nvPr/>
        </p:nvSpPr>
        <p:spPr>
          <a:xfrm>
            <a:off x="457200" y="820800"/>
            <a:ext cx="79153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If the null hypothesis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Helvetica Neue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: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= 0.80 is true, then the player’s sample proportion of made free throws in an SRS of 50 shots would vary according to an approximately Normal sampling distribution with m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Object 2"/>
              <p:cNvSpPr txBox="1"/>
              <p:nvPr/>
            </p:nvSpPr>
            <p:spPr>
              <a:xfrm>
                <a:off x="557280" y="2035080"/>
                <a:ext cx="812952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rPr>
                        <m:lit/>
                        <m:nor/>
                      </m:rPr>
                      <m:t xml:space="preserve"> and standard deviation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66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62" name="Picture 8" descr="Screen shot 2010-11-20 at 6.50.54 PM.png"/>
          <p:cNvPicPr/>
          <p:nvPr/>
        </p:nvPicPr>
        <p:blipFill>
          <a:blip r:embed="rId1"/>
          <a:stretch/>
        </p:blipFill>
        <p:spPr>
          <a:xfrm>
            <a:off x="2516040" y="2833560"/>
            <a:ext cx="4127760" cy="3516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Carrying Out a Significance 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extBox 14"/>
          <p:cNvSpPr/>
          <p:nvPr/>
        </p:nvSpPr>
        <p:spPr>
          <a:xfrm>
            <a:off x="457200" y="820800"/>
            <a:ext cx="7915320" cy="32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A significance test uses sample data to measure the strength of evidence against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Helvetica Neue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. Here are some principles that apply to most tes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• 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he test compares a statistic calculated from sample data with the value of the parameter stated by the null hypo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• 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Values of the statistic far from the null parameter value in the direction specified by the alternative hypothesis give evidence against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Helvetica Neue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Group 1"/>
          <p:cNvGrpSpPr/>
          <p:nvPr/>
        </p:nvGrpSpPr>
        <p:grpSpPr>
          <a:xfrm>
            <a:off x="671400" y="4230720"/>
            <a:ext cx="7915320" cy="1965240"/>
            <a:chOff x="671400" y="4230720"/>
            <a:chExt cx="7915320" cy="1965240"/>
          </a:xfrm>
        </p:grpSpPr>
        <p:sp>
          <p:nvSpPr>
            <p:cNvPr id="566" name="TextBox 6"/>
            <p:cNvSpPr/>
            <p:nvPr/>
          </p:nvSpPr>
          <p:spPr>
            <a:xfrm>
              <a:off x="671400" y="4230720"/>
              <a:ext cx="7915320" cy="1965240"/>
            </a:xfrm>
            <a:prstGeom prst="rect">
              <a:avLst/>
            </a:prstGeom>
            <a:solidFill>
              <a:srgbClr val="d7e9cb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est statistic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easures how far a sample statistic diverges from what we would expect if the null hypothesis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H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were true, in standardized units. That i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7" name="Object 3"/>
                <p:cNvSpPr txBox="1"/>
                <p:nvPr/>
              </p:nvSpPr>
              <p:spPr>
                <a:xfrm>
                  <a:off x="2090880" y="5342760"/>
                  <a:ext cx="5289480" cy="61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est statistic =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statistic - paramete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tandard deviation of statistic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  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Carrying Out a Significance 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TextBox 14"/>
          <p:cNvSpPr/>
          <p:nvPr/>
        </p:nvSpPr>
        <p:spPr>
          <a:xfrm>
            <a:off x="457200" y="820800"/>
            <a:ext cx="7915320" cy="25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he test statistic says how far the sample result is from the null parameter value, and in what direction, on a standardized scale. You can use the test statistic to find the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-value of the te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In our free-throw shooter example, the sample proportion 0.64 is pretty far below the hypothesized value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Helvetica Neue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= 0.8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tandardizing, we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Object 2"/>
              <p:cNvSpPr txBox="1"/>
              <p:nvPr/>
            </p:nvSpPr>
            <p:spPr>
              <a:xfrm>
                <a:off x="1528920" y="3844800"/>
                <a:ext cx="6032520" cy="17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est statistic =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tatistic - paramete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tandard deviation of statistic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/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566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=-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Carrying Out a Significance 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Box 14"/>
          <p:cNvSpPr/>
          <p:nvPr/>
        </p:nvSpPr>
        <p:spPr>
          <a:xfrm>
            <a:off x="4145040" y="820800"/>
            <a:ext cx="4227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he shaded area under the curve in (a) shows the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-value. (b) shows the corresponding area on the standard Normal curve, which displays the distribution of the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z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est statisti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ing Table A, we find th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-value is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(z ≤ – 2.83) = 0.002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2" descr="Screen Shot 2014-02-04 at 5.59.45 PM.png"/>
          <p:cNvPicPr/>
          <p:nvPr/>
        </p:nvPicPr>
        <p:blipFill>
          <a:blip r:embed="rId1"/>
          <a:srcRect l="0" t="0" r="49102" b="0"/>
          <a:stretch/>
        </p:blipFill>
        <p:spPr>
          <a:xfrm>
            <a:off x="457200" y="820800"/>
            <a:ext cx="3483000" cy="274644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9" descr="Screen Shot 2014-02-04 at 5.59.45 PM.png"/>
          <p:cNvPicPr/>
          <p:nvPr/>
        </p:nvPicPr>
        <p:blipFill>
          <a:blip r:embed="rId2"/>
          <a:srcRect l="50901" t="0" r="0" b="0"/>
          <a:stretch/>
        </p:blipFill>
        <p:spPr>
          <a:xfrm>
            <a:off x="457200" y="3481560"/>
            <a:ext cx="3483000" cy="2846160"/>
          </a:xfrm>
          <a:prstGeom prst="rect">
            <a:avLst/>
          </a:prstGeom>
          <a:ln w="0">
            <a:noFill/>
          </a:ln>
        </p:spPr>
      </p:pic>
      <p:sp>
        <p:nvSpPr>
          <p:cNvPr id="575" name="Rectangle 10"/>
          <p:cNvSpPr/>
          <p:nvPr/>
        </p:nvSpPr>
        <p:spPr>
          <a:xfrm>
            <a:off x="4145040" y="4414680"/>
            <a:ext cx="454176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o if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Helvetica Neue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is true, and the player makes 80% of his free throws in the long run, there’s only about a  2-in-1000 chance that the player would make as few as 32 of 50 sho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107748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</a:rPr>
              <a:t>Problem: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In a random sample of 124 couples, 83 were observed tilting to the right when kissing.  It was hypothesized that proportion of people who kiss leaning to the right is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elvetica Neue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= 0.5. It is believed that more people kiss leaning to the right than to the left.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(a) Calculate the test statistic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(b) Find the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P-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value using Table A or technology.  Show this result as an area under a standard Normal curve. 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(a) Because the hypothesized value is = 0.5 and  = 83/124 = 0.669, the standardized test statistic is z = (0.669 – 0.5)/0.0449 = 3.76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Using technology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: The command normalcdf(lower:3.76, upper:1000, :0, :1) gives a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-value of 0.0001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pull dir="lu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16:11:24Z</dcterms:created>
  <dc:creator>Sandy Hinding</dc:creator>
  <dc:description/>
  <dc:language>en-US</dc:language>
  <cp:lastModifiedBy>admin</cp:lastModifiedBy>
  <cp:lastPrinted>2017-03-02T17:57:42Z</cp:lastPrinted>
  <dcterms:modified xsi:type="dcterms:W3CDTF">2017-03-02T18:35:17Z</dcterms:modified>
  <cp:revision>234</cp:revision>
  <dc:subject/>
  <dc:title>Slide 1</dc:title>
</cp:coreProperties>
</file>